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C7D-2610-4B86-BDB1-0BE75D6C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520"/>
            <a:ext cx="9069480" cy="1567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2C4-21D7-443A-8529-42CC19FC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520"/>
            <a:ext cx="4425840" cy="1567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520"/>
            <a:ext cx="4425840" cy="1567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344-8FB6-425A-BCDE-12874840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520"/>
            <a:ext cx="2919960" cy="1567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520"/>
            <a:ext cx="2919960" cy="1567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520"/>
            <a:ext cx="2919960" cy="1567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924-DC70-4C7C-879A-A433BCB1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D35B-957F-4319-A373-9029415B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A27-7FEB-4D69-ADF5-EACA6469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058A-0931-4FAB-B594-1C0801AF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883-05F2-47CA-8AEE-108AA1B9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E2EC-79B4-449A-8DF9-549DD8C6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520"/>
            <a:ext cx="4425840" cy="1567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C0D2-D673-46CC-A01D-A43D8753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520"/>
            <a:ext cx="4425840" cy="1567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D330-39A7-41B4-ADFE-B045CB86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520"/>
            <a:ext cx="9069480" cy="1567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A9C1-1FB5-4026-80BF-0849DC59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87000"/>
          </a:bodyPr>
          <a:p>
            <a:pPr marL="298440" indent="0">
              <a:lnSpc>
                <a:spcPct val="93000"/>
              </a:lnSpc>
              <a:spcAft>
                <a:spcPts val="123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2984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98440" indent="-2984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98440" indent="-2984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98440" indent="-2984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98440" indent="-2984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98440" indent="-2984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6D358-E5D8-4D70-9BCC-EF45403C2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639720"/>
            <a:ext cx="90709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5 Ways to Resurrec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the Power of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Exact Match Doma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02920" y="1425240"/>
            <a:ext cx="9070920" cy="28177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any online marketers reduce this to a scienc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People are buying exact match domains left and righ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Well, Google pulled the plug on exact match domains a few years back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2920" y="1425240"/>
            <a:ext cx="9070920" cy="28177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any online marketers reduce this to a scienc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People are buying exact match domains left and righ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Well, Google pulled the plug on exact match domains a few years back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Instead of getting an instant SEO bonus, simply having an exact match domain doesn’t help you nowaday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25120"/>
            <a:ext cx="9070920" cy="22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act, if you’re still using exact match domains and you are building websites that have less than twenty pages, meaning you’re building "thin content websites", Google might even penalize yo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25120"/>
            <a:ext cx="9070920" cy="22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act, if you’re still using exact match domains and you are building websites that have less than twenty pages, meaning you’re building "thin content websites", Google might even penalize yo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’s how bad things are with exact match domai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3280" y="639720"/>
            <a:ext cx="90709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leads to the question of whether exact match domains are de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02920" y="1297080"/>
            <a:ext cx="9070920" cy="30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, I would rephrase that ques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02920" y="1297080"/>
            <a:ext cx="9070920" cy="30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, I would rephrase that quest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ead, I would ask whether there’s still power in exact match domain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02920" y="1297080"/>
            <a:ext cx="9070920" cy="30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, I would rephrase that quest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ead, I would ask whether there’s still power in exact match domain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nkfully, the answer is a resounding “yes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02920" y="1297080"/>
            <a:ext cx="9070920" cy="30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, I would rephrase that quest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ead, I would ask whether there’s still power in exact match domain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nkfully, the answer is a resounding “yes”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just have to play the exact match domains website game for 2019 and beyond the right w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190160"/>
            <a:ext cx="9070920" cy="32893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no mistake about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31760" y="-228600"/>
            <a:ext cx="10355400" cy="736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190160"/>
            <a:ext cx="9070920" cy="32893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no mistake about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getting a domain name and building a website on it with less than twenty pages and stuffing it with keyword content is not going to cut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190160"/>
            <a:ext cx="9070920" cy="32893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no mistake about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getting a domain name and building a website on it with less than twenty pages and stuffing it with keyword content is not going to cut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act, playing the exact match domain name this way may actually result in you getting a thin content penalty from Goog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203040" y="-660240"/>
            <a:ext cx="10499400" cy="69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02880"/>
            <a:ext cx="9070920" cy="20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ollows below are five ways to resurrect the power of exact match domai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802880"/>
            <a:ext cx="9070920" cy="20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ollows below are five ways to resurrect the power of exact match domai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winning exact match domains strategies for 2019 and bey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03280" y="225360"/>
            <a:ext cx="90709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 1: Use real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80" y="3240"/>
            <a:ext cx="10078920" cy="56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931760"/>
            <a:ext cx="9070920" cy="1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mistak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931760"/>
            <a:ext cx="9070920" cy="1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mistak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’re using duplicate content, low value content, or curated content, you're basically using content that has such a low value that it's not real cont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368000"/>
            <a:ext cx="9070920" cy="293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your exact match domain strategy to work in this day and age, at the very least, you have to use real cont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3280" y="225360"/>
            <a:ext cx="90709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exact match domai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368000"/>
            <a:ext cx="9070920" cy="293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your exact match domain strategy to work in this day and age, at the very least, you have to use real cont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ontent that is enga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368000"/>
            <a:ext cx="9070920" cy="293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your exact match domain strategy to work in this day and age, at the very least, you have to use real cont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ontent that is engag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ontent that is designed for real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368000"/>
            <a:ext cx="9070920" cy="293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your exact match domain strategy to work in this day and age, at the very least, you have to use real cont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ontent that is engag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ontent that is designed for real peo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ontent that is written in such a way that it engages the emotions of the rea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03280" y="639720"/>
            <a:ext cx="90709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you're featuring content that is written for flesh and blood human beings instead of Google's search robot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3280" y="225360"/>
            <a:ext cx="90709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 2: Build many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31760" y="-255600"/>
            <a:ext cx="10355400" cy="690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510920"/>
            <a:ext cx="90709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m have few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510920"/>
            <a:ext cx="90709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m have few p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're talking about less than twenty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510920"/>
            <a:ext cx="90709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m have few p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're talking about less than twenty p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want your exact match domain website to get penalized, you have to treat it like a real webs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387080"/>
            <a:ext cx="90709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do real websites look like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469520"/>
            <a:ext cx="9070920" cy="2730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domain names that have the exact match keywords for particular keyword 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387080"/>
            <a:ext cx="90709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do real websites look like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y’re composed of many page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387080"/>
            <a:ext cx="90709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do real websites look like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y’re composed of many page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fact, many real websites grow over time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387080"/>
            <a:ext cx="90709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do real websites look like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y’re composed of many page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fact, many real websites grow over time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uild many pages for your exact match domain website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812600"/>
            <a:ext cx="9070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ight think that since you’re focused on a very exact long tail keyword, there's really not much space in terms of content expa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812600"/>
            <a:ext cx="9070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ight think that since you’re focused on a very exact long tail keyword, there's really not much space in terms of content expan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ould be absolutely wro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90280"/>
            <a:ext cx="9070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to think broadly regarding your key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90280"/>
            <a:ext cx="907092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to think broadly regarding your key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keyword might seem very specific but it might be tied to a broader categ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061640"/>
            <a:ext cx="9070920" cy="354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act if you develop those broader categories while still devoting enough of your content to your long tail keyword target, you might do better on search engi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061640"/>
            <a:ext cx="9070920" cy="354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act if you develop those broader categories while still devoting enough of your content to your long tail keyword target, you might do better on search engi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061640"/>
            <a:ext cx="9070920" cy="354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act if you develop those broader categories while still devoting enough of your content to your long tail keyword target, you might do better on search engi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tegory-based pieces content add context to your whole webs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469520"/>
            <a:ext cx="9070920" cy="2730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domain names that have the exact match keywords for particular keyword sear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f I am looking to sell Harvard history essay writing onlin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03280" y="225360"/>
            <a:ext cx="90709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 3: Pick longtail keywords that are wide enough to build a real sit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58680" y="-561960"/>
            <a:ext cx="10210680" cy="680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533240"/>
            <a:ext cx="9070920" cy="2601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always a good idea if you’re going to be targeting longtail keywords to pick keywords based on how broad they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2920" y="1533240"/>
            <a:ext cx="9070920" cy="2601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always a good idea if you’re going to be targeting longtail keywords to pick keywords based on how broad they a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g tail keywords selections must be wide enough so you can build enough sections based on that keyw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920" y="1464840"/>
            <a:ext cx="907092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keyword should lead to a wide enough range of topics so you can actually build many p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464840"/>
            <a:ext cx="907092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keyword should lead to a wide enough range of topics so you can actually build many pag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in mind that there are many longtail keywords out there in your ni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464840"/>
            <a:ext cx="907092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keyword should lead to a wide enough range of topics so you can actually build many pag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in mind that there are many longtail keywords out there in your nich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pick the ones that basically put a straightjacket on your webs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03280" y="639720"/>
            <a:ext cx="90709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not a recipe for succ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03280" y="225360"/>
            <a:ext cx="90709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 4: Use related longtails in your nav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20440"/>
            <a:ext cx="907092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've mentioned earlier, there are many longtail keywords in a particular ni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469520"/>
            <a:ext cx="9070920" cy="2730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domain names that have the exact match keywords for particular keyword sear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f I am looking to sell Harvard history essay writing onlin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buy the domain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harvardhistoryessaywriting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o capture that exact match domain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2920" y="1720440"/>
            <a:ext cx="907092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've mentioned earlier, there are many longtail keywords in a particular nich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to pick a longtail keyword that is broad enough where a large number of these other more targeted longtail keywords can be categorized un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03280" y="639720"/>
            <a:ext cx="90709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is structure, you can use these smaller and highly targeted longtail keywords as part of your navigation system on your webs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7320" y="-82440"/>
            <a:ext cx="10406160" cy="58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03280" y="225360"/>
            <a:ext cx="90709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 5: Use related broader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25120"/>
            <a:ext cx="9070920" cy="22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using related highly targeted longtail keywords in your navigation system, you can also use such keywords when coming up with catego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1725120"/>
            <a:ext cx="9070920" cy="22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using related highly targeted longtail keywords in your navigation system, you can also use such keywords when coming up with catego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using related broad categories, you can stuff all these highly targeted keywords in those catego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03280" y="639720"/>
            <a:ext cx="90709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enables you to build a wider and more powerful webs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03280" y="225360"/>
            <a:ext cx="90709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2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 outsourcing is your fri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58680" y="-216000"/>
            <a:ext cx="10210680" cy="68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" y="1278000"/>
            <a:ext cx="907092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no mistake about it, bad content or low quality content or junk content is very che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58680" y="-561960"/>
            <a:ext cx="10210680" cy="680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2920" y="1278000"/>
            <a:ext cx="907092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no mistake about it, bad content or low quality content or junk content is very chea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act, you only need to use software to get junk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278000"/>
            <a:ext cx="907092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no mistake about it, bad content or low quality content or junk content is very chea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act, you only need to use software to get junk cont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is, the moment you start using real content, your costs go 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3280" y="639720"/>
            <a:ext cx="90709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od news is that outsourcing is a very powerful tool you should use to take your business to the next lev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74920" y="1273320"/>
            <a:ext cx="714204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74920" y="1273320"/>
            <a:ext cx="714204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74920" y="1273320"/>
            <a:ext cx="714204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4920" y="1273320"/>
            <a:ext cx="714204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74920" y="1273320"/>
            <a:ext cx="714204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74920" y="1273320"/>
            <a:ext cx="714204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2920" y="1372680"/>
            <a:ext cx="9070920" cy="292284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course you always focus on quali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2920" y="1425240"/>
            <a:ext cx="9070920" cy="28177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any online marketers reduce this to a science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2920" y="1372680"/>
            <a:ext cx="9070920" cy="292284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course you always focus on quali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cannot simply fixate on low pric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920" y="1372680"/>
            <a:ext cx="9070920" cy="292284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course you always focus on quali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cannot simply fixate on low pric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also have to aim for a healthy balance between low content prices and high content quali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314000"/>
            <a:ext cx="9070920" cy="3041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balancing these two factors, you end up getting the best of both wor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920" y="1314000"/>
            <a:ext cx="9070920" cy="3041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balancing these two factors, you end up getting the best of both worl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only do you cut down on your cost but you also feature a quality content on your exact match domain websites so you can resurrect the power these exact match domains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2920" y="1425240"/>
            <a:ext cx="9070920" cy="28177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any online marketers reduce this to a scienc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People are buying exact match domains left and righ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4T05:13:05Z</dcterms:created>
  <dc:creator/>
  <dc:description/>
  <dc:language>en-US</dc:language>
  <cp:lastModifiedBy/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anguage">
    <vt:lpwstr>English (United States)</vt:lpwstr>
  </property>
</Properties>
</file>